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889-80DD-4A17-A90A-C05B7E82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3DC-05C9-4ACA-9F26-BDF0EEB6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9A4-8D79-4B3E-A674-8CC37B24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472-606A-430F-9011-5DCC0AA0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8CA-F2D2-47B5-9232-AEAEBBFD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564-CB46-4728-B1E6-7C9F5BF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D901-704B-4A3B-A0A4-C11E6A8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AAD1-2105-443A-A9B5-DD3C268A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A7D3-795D-48D9-AA55-348F11F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BF83-6F85-4D72-BEB0-0D3D694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9658-BC7F-482E-8A95-D5550F4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5C1-967E-4522-A146-ADC82A25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A1D-46B3-4D08-929A-C90DE3B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FF9F-B8B2-4887-A889-0ED695B6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5518-5854-4404-967B-B3A0B62C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880D-F673-454C-895F-FE80A279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023-ECBF-47E0-BAFB-9AD3C7E0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ADB-9663-4C52-B2A9-2CCC1A4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1DF-D789-4051-8AEB-DEECA59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9BD-7CCA-4F15-AABD-DF1BFDCB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99F-356F-4086-BAFF-5AB865D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27C-66B3-43D2-A95A-F666176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2D5-71D4-4FE4-88ED-5329533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E1C-8104-471D-AE8F-797921F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046A-094E-4A4D-A5E9-54EA6E42981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05DD-00A0-4ACC-8938-84E2E49FC3D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201840"/>
            <a:ext cx="178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28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w many colour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re there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in the British fla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V="1" rot="10800000">
            <a:off x="6400440" y="571464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7T16:3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